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2D7-4526-43F2-B034-525585B5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32D-75DA-42CF-8C0B-6A25A68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7FD-C987-46C8-B294-0EB78AFB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13A-B5FA-4DE2-BE87-F7AA676C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379-2E4C-4933-BDF5-5FCA55D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C70-814B-4D3C-8655-ED2AF658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76D-1DEF-4747-A55E-6C17F7E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9A0-038A-43DF-8329-14AC4C8A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618-1A80-419C-BC91-8B696795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63B-EDE7-4349-881D-7D60A86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3FB-73B2-44C1-AFAE-5366FCF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956-5D13-4349-84F1-33456F3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C950-1D67-46B4-AF95-0BC5C47E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8320" y="2133360"/>
            <a:ext cx="8456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LIG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555720"/>
            <a:ext cx="66247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y: Lauren and Micha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Are Liger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gers are animals from the breeding of a male lion and a female tiger.This combination is a great result of a liger cub.A liger has more lionistic features than a female lion and a male tig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440" y="1568520"/>
            <a:ext cx="9550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a9121"/>
                </a:solidFill>
                <a:latin typeface="Trebuchet MS"/>
              </a:rPr>
              <a:t>What animals do ligers eat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gers eat cows,pigs,a mix of birds,maybe even real African animals like antolope and zebras.Liger can weigh up to 700lbs.Ligers are the largest of all extant fel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ow tall are liger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igers averrage height is 6 to 8 ft.(the size of a lamp pos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92920" y="0"/>
            <a:ext cx="4195800" cy="752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106200" y="0"/>
            <a:ext cx="6076800" cy="350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-123840" y="3454560"/>
            <a:ext cx="6072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996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19080" y="2743200"/>
            <a:ext cx="5594400" cy="460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586480" y="2743200"/>
            <a:ext cx="4543200" cy="464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060880" y="0"/>
            <a:ext cx="50482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